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Интегрисане академске студије фармације</a:t>
            </a:r>
            <a:endParaRPr b="0" lang="en-US" sz="36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мет: Енглески јези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едавач: Душица Лази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Dependence</a:t>
            </a:r>
            <a:endParaRPr b="0" lang="en-US" sz="28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dependence is a psychological and sometimes physical state resulting from the interaction between a living organism and a drug, characterized by behavioral and other responses that always include a compulsion to take the drug on a continuous or periodic basis in order to experience its psychological effects and sometimes to avoid the physical/mental discomfort of its absenc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finition of drug dependence gives only a broad indication of the nature of the phenomena that are, in large measure, common to the various types or groups of drugs. The characteristics of drug dependence show significant differences from one type of drug to another, a situation that makes it essential to establish clearly the dependence pattern for each typ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Language in Pharmacy Practice” by Leontina Kernic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s to remember:</a:t>
            </a:r>
            <a:endParaRPr b="0" lang="en-US" sz="28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bitu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lucinog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i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tile solv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ox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ax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ir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o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poro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bl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ing points:</a:t>
            </a:r>
            <a:endParaRPr b="0" lang="en-US" sz="28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ION OF DRUG DEPENDE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GNS AND SYMPTOMS OF ALCOHOL INTOX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UG DEPENDENCE OF BARBITURATE-TY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S OF CANNABIS SMO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ARACTERISTICS OF DRUG DEPENDENCE OF COCAINE-TY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E ON OP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ATILE SOLV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all  words that can be used to describe the following:</a:t>
            </a:r>
            <a:endParaRPr b="0" lang="en-US" sz="28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e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quilliz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ox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pto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ia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nouns from the following words and use each of them in sentences of your own:</a:t>
            </a:r>
            <a:endParaRPr b="0" lang="en-US" sz="28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i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ur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e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l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vi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ora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verbs in brackets into The Future Tense or The Future Continuous Tense:</a:t>
            </a:r>
            <a:endParaRPr b="0" lang="en-US" sz="28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worry about the exam. I’m sure you (pass)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ve got some incredible news. You never (believe) what has happen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orrow afternoon, we (do) a very important t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hone me between 8 and 9. We (have) dinner at that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opes that he (succeed) in his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ubject she (teach) next autum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oesn’t feel well. He (stay) at home to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ive days, they (enjoy) their holiday abr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 the verbs in brackets into the required form:</a:t>
            </a:r>
            <a:endParaRPr b="0" lang="en-US" sz="28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ish I (write) to him befo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ine if he (keep) on repeating the same s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talk as if you (know) every deta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ey (permit) such a 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looks as though we (have) an interesting topic to discu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ish I (visit) him there tomorr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a:t>
            </a:r>
            <a:endParaRPr b="0" lang="en-US" sz="28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евести краћи текст на енглески јези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4-12T10:37:03Z</dcterms:modified>
  <cp:revision>18</cp:revision>
  <dc:subject/>
  <dc:title>Slide 1</dc:title>
</cp:coreProperties>
</file>